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FA6F-62AA-4E72-AA7F-6D5D707F08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in’ the FAC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ow that’s a CLASS AC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nowing the FAC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at’s Where It’s At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eep it togeth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ay in the GROO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now Stead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ou’re on the MOV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’ the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at’s a CLASS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the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ere It’s 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i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 in the GRO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now St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on the MOV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 x 1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lease don’t offen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uch more Fu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PLIT then AD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M! You’re Don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don’t offe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then 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M! You’r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ive me some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them 12’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,     24,     36,     48,     6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2,    84,     96,    108,  12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x12     just split  then add 132  that’s all you d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…There is NO MORE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som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them 12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,     24,     36,     48,    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,    84,     96,    108,  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x12     just split  then add 132  that’s all you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…There is NO MO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BHA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CORED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h, Yea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R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, Ye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 x 1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at’s no Fu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 x 2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Too Easy to D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3 x 3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yone can See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, 6, 9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very Tim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no Fu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o Easy to D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 x 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one can Se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6, 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 x 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ay No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aus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uble Double that’s no Troubl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rst Double is 8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xt Double 1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 x 4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them 4s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,     8,   12,   16,  2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4,   28,  32,   36,  4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No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Double that’s no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ouble is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Doub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x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them 4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     8,   12,   16,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,   28,  32,   36, 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ing Ali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Set, Stay in the Rac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, 10, 15, 20, 25, 30, 35, 40, 45, 5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5, 60, 65, 70, 75, 80, 85, 90, 95, 100 oh Yea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 it Again, Make it Ters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Set, Revers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Set, Stay in the Rac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 10, 15, 20, 25, 30, 35, 40, 45,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, 60, 65, 70, 75, 80, 85, 90, 95, 100 oh Ye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t Again, Make it T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Set, Revers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WHAM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WE’RE GOO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’RE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asy to fix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ing our Six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, 12, 18, 24, 30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, 42, 48, 54, 6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y to f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g our Si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 12, 18, 24, 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, 42, 48, 54,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 x 7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eep in Tim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 x 7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et’s Roll Them Fin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, 14, 2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8, 35, 4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9, 56, 63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rap it up…7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x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i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x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oll Them F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, 14,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, 35,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, 56,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 it up…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 x8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ell on the Flo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 x 8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it Now, Roll some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,  16, 24, 32, 4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8, 56, 64, 72, 8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x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l on the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x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it Now, Roll som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  16, 24, 32,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, 56, 64, 72,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 x 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is one’s Fu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 x 9 i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in, Rollin, get the water Boilin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0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2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3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x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ne’s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x 9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, Rollin, get the water Boili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0852-8EB2-42A8-85D5-2AA30859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A43-B7D0-4685-9E8B-776C10F8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97FC-D3F0-45C8-B3E6-6D2BB1B0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1176-7F6F-4243-9461-D5B9158F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20B4-B540-44CA-8400-C3BBF4D3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F5CF-75CB-4C77-8A76-19603DE3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3FF7-FA6A-49CA-BDC2-C80B3758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16EF-A557-4FD1-90EE-CA939887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65C9-DA7E-4EB5-B6A5-A950B469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7861-3FE1-4617-A693-AE55F265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C15E-48B4-4EEE-9FD7-A74AFB33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0CA2-D85E-4720-B906-62911FFE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6307-197C-45AD-A2A2-E7A1D055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540D-3340-4020-B0DC-D8C25B94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8FC1-8578-4F68-B4F5-05186CF9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DAB7-BF90-4DAF-9053-B27436CA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A1BE-BFE8-41C0-A8E0-2074122F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1BE9-7B1E-4C72-B9B0-01DB5561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EA0F-D4B3-4482-B109-CADF83D6F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4480-5C20-4EFF-8402-25FAF7D8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5BC8-3A8A-477A-811A-7AEB1F02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A219-4A87-4A77-AF67-D28DE37A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7918-812E-485C-BD1B-DDF61CA1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031A-FC43-4D61-AC01-791AED22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2516-DA96-4C40-8EEE-A85B53DE1A73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B365-C2B2-42FA-A2F1-245AF6382CF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(2x slap, slap, slap, clap, slap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Doin’ the FA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Now that’s a CLASS A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Knowing the FA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That’s Where It’s At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(2x slap, slap, slap, clap, slap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Keep it togeth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Stay in the GROOV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Ready, now Stead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You’re on the MOV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10 x 1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Please don’t offend</a:t>
            </a: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Arial Black"/>
              </a:rPr>
              <a:t>11 x 11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Much more Fu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SPLIT then ADD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WHAM! You’re Don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11 x 11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121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ive me some mor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4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oll them 12’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,     24,     36,     48,    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6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2,    84,     96,    108, 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2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1x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2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just split  then add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2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at’s all you d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4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44…There is NO MORE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 Black"/>
              </a:rPr>
              <a:t>WHAM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66"/>
                </a:solidFill>
                <a:latin typeface="Arial Black"/>
              </a:rPr>
              <a:t>BHAM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ff"/>
                </a:solidFill>
                <a:latin typeface="Arial Black"/>
              </a:rPr>
              <a:t>WE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Arial Black"/>
              </a:rPr>
              <a:t>SCORED!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Arial Black"/>
              </a:rPr>
              <a:t>Oh, Yea…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1 x 1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That’s no Fu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2 x 2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Too Easy to Do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3 x 3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Anyone can See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3, 6, 9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Every Time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 x 4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ay No Mo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u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uble Double that’s no Troub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rst Double is 8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ext Double 1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 x 4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oll them 4s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,     8,   12,   16,  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2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4,   28,  32,   36,  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4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5 x 5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Coming Aliv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5 x 5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25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 Black"/>
              </a:rPr>
              <a:t>Ready, Set, Stay in the Race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5, 10, 15, 20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25</a:t>
            </a: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, 30, 35, 40, 45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50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55, 60, 65, 70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75</a:t>
            </a: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, 80, 85, 90, 95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100 </a:t>
            </a:r>
            <a:r>
              <a:rPr b="1" lang="en-US" sz="2000" spc="-1" strike="noStrike">
                <a:solidFill>
                  <a:srgbClr val="66ff66"/>
                </a:solidFill>
                <a:latin typeface="Arial Black"/>
              </a:rPr>
              <a:t>oh Yea!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 Black"/>
              </a:rPr>
              <a:t>Do it Again, Make it Ter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 Black"/>
              </a:rPr>
              <a:t>Ready, Set, Revers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ff"/>
                </a:solidFill>
                <a:latin typeface="Arial Black"/>
              </a:rPr>
              <a:t>WHAM!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WE’RE G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 x 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Easy to fix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 x 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3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Rolling our Sixe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, 12, 18, 24, </a:t>
            </a: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30</a:t>
            </a: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             </a:t>
            </a: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36, 42, 48, 54, </a:t>
            </a: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6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7 x 7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Keep in Tim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7 x 7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49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Let’s Roll Them Fine…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7, 14,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21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28, 35,</a:t>
            </a: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42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49, 56,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63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Wrap it up…70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8 x8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Fell on the Floor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8 x 8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64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Roll it Now, Roll some Mor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8,  16, 24, 32, </a:t>
            </a:r>
            <a:r>
              <a:rPr b="1" lang="en-US" sz="4000" spc="-1" strike="noStrike">
                <a:solidFill>
                  <a:srgbClr val="66ff66"/>
                </a:solidFill>
                <a:latin typeface="Arial Black"/>
              </a:rPr>
              <a:t>4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                     </a:t>
            </a: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48, 56, 64, 72, </a:t>
            </a:r>
            <a:r>
              <a:rPr b="1" lang="en-US" sz="4000" spc="-1" strike="noStrike">
                <a:solidFill>
                  <a:srgbClr val="66ff66"/>
                </a:solidFill>
                <a:latin typeface="Arial Black"/>
              </a:rPr>
              <a:t>8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9 x 9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This one’s Fu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9 x 9 i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8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Rollin, Rollin, get the water </a:t>
            </a: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Boilin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90</a:t>
            </a: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81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72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63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54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45</a:t>
            </a: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36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27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18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09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5:42:49Z</dcterms:created>
  <dc:creator>dtaylor</dc:creator>
  <dc:description/>
  <dc:language>en-US</dc:language>
  <cp:lastModifiedBy>RomaK</cp:lastModifiedBy>
  <dcterms:modified xsi:type="dcterms:W3CDTF">2015-09-04T07:42:59Z</dcterms:modified>
  <cp:revision>15</cp:revision>
  <dc:subject/>
  <dc:title>math fact review rap</dc:title>
</cp:coreProperties>
</file>